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1FF-734F-4FE6-993B-86E7978F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4FF-2DB9-44D0-8D7C-B059AD9E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C5C-8023-491A-9E91-CA6DE734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537-CA00-4B56-B43C-E2B8307E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5DA8-E747-4A40-9453-5E9232F3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3522-05A2-4F64-B1F4-676440D9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63D0-28CB-4A96-A74D-1E76F8E6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5A29-775A-4FD8-9A78-E17599D4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35D4-96FA-4401-90B3-11BEF30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88EB-185A-484F-946C-E98805FD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4A65-7C55-4063-8964-06493557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E7B-CEB6-422C-A037-8D7B36B6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9CC3-E690-4329-BEBB-49167656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5FE3-BAA5-4EA6-8C7E-CED88561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FA2F-B38A-4A8A-B5BD-A8F3D6A0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43AC-FDE6-4DBE-81B8-319D3D34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4FDB-B449-45AB-B3E0-2E265E00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3600-8E10-4CDB-874A-7FF3CAF3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2606-6C40-4377-815B-B31B3324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6A6A-4D78-4D2B-99BC-2D73CD6F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8E08-B504-4A09-8F72-ADB382AB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694EE-3661-45AB-A682-5362CCD9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4EC-D124-49DC-8F0E-CE35A74F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6AD6-5F71-4EC7-AAB5-16E6E760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D538-C600-432E-B694-AEB35453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2EF5-580B-41A1-8352-D167F11D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9FEC-EF47-427B-A9C6-D7DCFA42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8F12-0AD4-4941-9174-6F7426EB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1A6F-08A9-4ED3-917E-F3A10837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5AC9-A9C6-4BA3-AC25-D9E95F3D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7F4DC-51C7-4BB3-82D1-A017D038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0303E-1F04-46B3-8D04-F17FD995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23E67-1CB1-4371-980C-5C3E64DA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5D0-7E48-4D6C-8F4F-DA48DC23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38DBF-323A-4FCF-8F88-E45DF8A0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172A-A042-4B1C-9FC4-9EB5343D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60A6-C2D3-4419-8561-ADE72673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1F728-6C84-4743-ADB3-2B8684E1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EE66B-D858-44E8-B1F8-E05A19E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1EA4B-4BCF-4D77-A2E8-DF4D729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9A44-56C0-4F3B-90C5-41E95D80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EAF3-D941-42FE-B7DB-8108890A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2E9C-1AC0-4D83-97EC-BA015833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335-8308-4B9F-A5E9-FFB70BF3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74C-6039-49A1-961E-7367192E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A24-94A5-45AC-A859-A3AB9546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204-92B3-4A05-8DD6-BD93798F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323-E540-4337-96DB-362DBD07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0C7C-B6F1-4AAC-87B9-CC74F4F2F71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ABBB-FC10-4849-A621-137AD8E3BFB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FB7F-FAB0-46B7-8D17-FFF197B4205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69EF-8CE3-4E73-9213-A5FBDA031EF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202480" y="65412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324000" y="1484280"/>
            <a:ext cx="838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547640" y="2490840"/>
            <a:ext cx="6120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</a:rPr>
              <a:t>4. наставна јединица (четвр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тицај карактеристика личности и социјалних специфичности на комуникац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есионални аспекти вештине комуникације у здрав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70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3520" y="3352680"/>
            <a:ext cx="7772400" cy="293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висок степен толеранци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стрпљењ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аутентичну жељу да разуме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миран то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када конкретну сугестију у решавању пробле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8223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244440" y="530280"/>
            <a:ext cx="8070840" cy="1420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заузимају затворенији ста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избегавају контакт оч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 дефинишу јасно своје жеље и циљев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оскудно говоре о својим тегоба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476280" y="1133640"/>
            <a:ext cx="8064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21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поштовање професионалне дистанц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јасних и тачних одговор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 предузимати “акцију” разуверавањ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поштовање и разумевање ригидности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244440" y="755640"/>
            <a:ext cx="8491680" cy="1427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оставити утисак смирене и стрпљиве особе која аутентично охрабру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простора за разгов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одговарајућих објашњења везано за страх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24256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c000"/>
                </a:solidFill>
                <a:latin typeface="Constantia"/>
              </a:rPr>
              <a:t>Професионални аспект вештине комуникације здравствених радника подразумев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поседовање медицинских знањ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исказивање емпатиј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чување медицинске тајн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добронамер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стрпљив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марљивост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хума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та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одлу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енерги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брзин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спрет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171360" y="835200"/>
            <a:ext cx="8064720" cy="907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028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 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анксиозно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 деп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 рег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 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аг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44440" y="639720"/>
            <a:ext cx="8240760" cy="1182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неупадљивост у држању, понашању и спољашњем изглед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римерено одевањ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ред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спостављање контакта очима са пацијенто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аутентичну заинтересованост за разгов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тав мирног, стрпљивог и заинтересованог слушаоц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осмех и љубаз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нашање које шаље поруку да пацијент и његова породица “нису сами”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171360" y="907920"/>
            <a:ext cx="8064720" cy="1427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тварање амбијента поверења и сигур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исказивање емпатије и хуманистичког односа према пацијент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важавање личности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29920" y="1066680"/>
            <a:ext cx="82328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Constantia"/>
              </a:rPr>
              <a:t>Светска здравствена организација дефинише тимски рад као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Constantia"/>
              </a:rPr>
              <a:t>рад више стручњака на постизању заједничког циља. Тај рад не сме бити фрагментиран и неповезан, већ добро координиран од стране руководиоца тима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.”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44440" y="1060560"/>
            <a:ext cx="8070840" cy="7617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29920" y="1980720"/>
            <a:ext cx="823284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- екипни тимски хијерархијски рад 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(нпр.рад хирушког тима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- процесни тимски рад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 (нпр. интердисциплинарни тимски рад са децом ометеном у менталном развоју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Интердисциплинарни тим 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чине особе које свакодневно раде заједно, које у решавању постављених циљева користе знање из своје области и своје надлежности, али кроз активну сарадњу са осталим члановима тим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44440" y="1060560"/>
            <a:ext cx="8070840" cy="914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0280" y="2209320"/>
            <a:ext cx="83088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штовање унапред дефинисаног времена тимских састана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давање активног доприноса у изналажењу решењ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извршавање својих обавеза у предвиђеном рок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очекиваног квантума знања из своје обла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искуства у тимским активнос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смисла за конструктивну тимску комуникациј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835200"/>
            <a:ext cx="8070840" cy="9871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02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квалитетну комуникацију између чланова 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међусобно уважавање лич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добронамер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премност за отворен, конструктиван и искрен дијалог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пућивање јасних, недвосмислених порука другим члановима 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44440" y="907920"/>
            <a:ext cx="8070840" cy="9144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02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ујету појединц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требу за привилегијом у груп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замену дефинисаног циља тежњом ка личном успех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анимозитет према колег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ривалите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било који облик опструкције тимског процес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вишен то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70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028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јас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разумљи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двосмисле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244440" y="987480"/>
            <a:ext cx="8070840" cy="14209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520" y="3047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флексибил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обронамер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толеранц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исказивање емпати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алажење заједничких елемената (нпр.интересовања) са пацијенто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639720" y="530280"/>
            <a:ext cx="86630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сихичк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драв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об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ј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1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лише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сихијатријск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бољењ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2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ј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пшт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тањ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ећањ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адовољств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опстве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ункционисање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ретежн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е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време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3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ункциониш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вој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у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л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близ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ун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нтелектуал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изичк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емоционал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апацитето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4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пособ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бор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рађу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колино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ар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адаптивн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апацитет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тј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днос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родитељ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лега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шир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руштве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кружење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ачин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Ег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нач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змеђ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тал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пособ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активн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чекива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успехо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разреш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нфликтн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итуаци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Марић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2001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0280" y="1294920"/>
            <a:ext cx="83088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Независно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тип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болесник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сихопатологиј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кој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н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спољав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екар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мор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штова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сновн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ринцип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,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добр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комуникациј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ацијентом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,.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штов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ацијент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рвом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ред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дразумев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твар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атмосфер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верењ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игур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  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емпатиј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зражав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аутентичн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заинтересова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свећеност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1" descr=""/>
          <p:cNvPicPr/>
          <p:nvPr/>
        </p:nvPicPr>
        <p:blipFill>
          <a:blip r:embed="rId1"/>
          <a:stretch/>
        </p:blipFill>
        <p:spPr>
          <a:xfrm>
            <a:off x="244440" y="530280"/>
            <a:ext cx="8923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244440" y="450720"/>
            <a:ext cx="8070840" cy="1427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еуфор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раздражљив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убрзан мисаони то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лако ступање у комуникацију са познатим и непознатим особа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често сумануте идеје о сопственој величи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захтеван став према окружењу и с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Здравствени радник у комуникацији са </a:t>
            </a:r>
            <a:r>
              <a:rPr b="0" i="1" lang="en-US" sz="2200" spc="-1" strike="noStrike">
                <a:solidFill>
                  <a:srgbClr val="ff0000"/>
                </a:solidFill>
                <a:latin typeface="Constantia"/>
              </a:rPr>
              <a:t>маничним пацијентом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 ”позива га” да се смири, нудећи му својим ставом и понашањем модел стрпљиве и смирене особ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0T18:29:15Z</dcterms:created>
  <dc:creator>Korisnik</dc:creator>
  <dc:description/>
  <dc:language>en-US</dc:language>
  <cp:lastModifiedBy>Milanče Sin</cp:lastModifiedBy>
  <dcterms:modified xsi:type="dcterms:W3CDTF">2023-02-03T23:05:31Z</dcterms:modified>
  <cp:revision>32</cp:revision>
  <dc:subject/>
  <dc:title>Slide 1</dc:title>
</cp:coreProperties>
</file>